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745-2E9A-4847-949A-DC3850C1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212-038D-4411-8F12-7E7CF89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700-DA46-4C47-92DB-AE3C6429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2F8-BD4D-42DE-B2A0-6B7B6A31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216-9DCB-4C9E-BCE2-333E4183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507-EB11-4092-B42D-A1083E5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CD4-4CF0-49A6-BD68-6D3C4E5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121-9477-41A2-8BE2-E942B83D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7A5-4C99-43AC-9038-9623B3F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390-2641-4184-9CD8-F5361E8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C8E-0296-4776-B1B8-235A34C8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25A-A25C-4DFB-982B-C2A4D68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1B91-86D5-4990-B777-4802A187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9113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09680" y="31240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lele creatie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lumină!" Şi a fost lumină. (Facerea 1,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o tărie prin mijlocul apelor şi să despartă ape de ape!" Şi a fost aşa. (Facerea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6576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dea pământul din sine verdeaţă: iarbă, cu sămânţă într-însa, după felul şi asemănarea ei, şi pomi roditori, care să dea rod cu sămânţă în sine, după fel, pe pământ!" Şi a fost aşa.  (Facerea1,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luminători pe tăria cerului, ca să lumineze pe pământ, să despartă ziua de noapte şi să fie semne ca să deosebească anotimpurile, zilele şi anii,  (Facerea1,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mişune apele de vietăţi, fiinţe cu viaţă în ele şi păsări să zboare pe pământ, pe întinsul tăriei cerului!" Şi a fost aş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erea1,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scoată pământul fiinţe vii, după felul lor: animale, târâtoare şi fiare sălbatice după felul lor". Şi a fost aşa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făcut Dumnezeu pe om după chipul Său; după chipul lui Dumnezeu l-a făcut; a făcut bărbat şi femei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acerea1,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binecuvântat Dumnezeu ziua a şaptea şi a sfinţit-o, pentru că într-însa S-a odihnit de toate lucrurile Sale, pe care le-a făcut şi le-a pus în rânduial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erea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2:18:46Z</dcterms:created>
  <dc:creator>owner</dc:creator>
  <dc:description/>
  <dc:language>en-US</dc:language>
  <cp:lastModifiedBy>PC</cp:lastModifiedBy>
  <dcterms:modified xsi:type="dcterms:W3CDTF">2009-10-28T17:28:29Z</dcterms:modified>
  <cp:revision>10</cp:revision>
  <dc:subject/>
  <dc:title>Citat biblic ziua I </dc:title>
</cp:coreProperties>
</file>